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2AF-7009-4834-A476-0413DEB5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AF5-DA0C-4B37-9FC4-9E5B0696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8160C-F2AB-4717-8EEC-287E52D3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86D51-7C62-4083-88C4-3A52966F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D4678-536B-476F-BDCF-311A0E18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A8EDC-28BC-466D-8969-523A235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A616B-97A0-4736-9A9F-4F9ABE77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0B569-2678-475A-A99B-51DD4534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D26A6-D670-4D6F-A21A-9DBF3DDA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07CE0-92FE-437B-BEFA-86E450E1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FA2E4-7275-4815-AFAB-CA6E85A8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E7590-BEAC-4E64-BE85-A29FD5E9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6DE-E87A-4483-82C8-901EB023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A9709-1CE5-4C96-8A47-6DCBA0D1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39F0F-12F9-47E4-9B25-9DDD2D72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BC454-848D-45F9-8877-C184EFA5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11987-7319-4229-B7B3-99A479D2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ABD6F-1185-4D49-9C79-F1A50E8E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91297-4580-40CC-807D-3C6DF458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1BE7B-3AC3-4DFD-A886-2DAC81D7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69982-FB34-4302-A612-B012202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F5CD6-E7EA-4686-8466-1C0E8767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360B0-7BB7-4DD8-BFA9-3B2E10C0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896-F807-446E-8096-CAE03340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D7F7B-B8E2-44F1-AD68-10D2CB2F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BCFE9-7BF5-4668-A151-91CBACC2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CB565-CEB0-4F47-9F3A-FBA653CA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78239-F87D-4FDD-A16C-51A12342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C33D1-AE9F-4C9D-A1F4-A4A01E29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103F9-9755-449D-B03F-E699CABB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75295-AF35-4339-AB1C-5EE9FA34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E493B-7F82-46F2-B460-8CB76082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66DCA-3E33-4740-B748-133DB47F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F806C-E962-4181-A308-71DFA2BE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4673-8EC3-48A4-AEE1-CD90133C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B0CE2-3C12-4F6A-920E-2A9D74ED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592E1-437C-4960-8BE6-81AD0AA0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F69F8-2836-478F-9A2C-9323749A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340A4-F6E0-468A-AA78-025EBE88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96B38-85DB-40B3-A0A9-0CEB11BE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C562C-8B65-46C3-A75B-40132A47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CE9AF-104F-4B97-82DA-5C57DD8C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C54B8-9DEE-4897-BF8A-C8FBDE29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85717-1730-4860-9D64-E6D2A27F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B7A2B-D0CD-442C-8E9E-1983F120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DD02-52E4-4ECF-B704-8DA07754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73346-2942-4A90-8CDD-7DBACCC2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07DF1-0A80-435B-9BF4-B4C15E19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759FA-84AF-42E8-B21E-D2DE161E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5257C-ECD8-4D79-9C1D-634F8A58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97BF6-077E-438E-B17A-C9974B39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56B14-3CB8-4BA1-8A8B-462D2A14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DD28A-0A87-4548-910C-673F4A4F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0936F-9FE4-498F-BFD7-20B3BB9E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E5E4A-F5C8-4FD8-8263-735AFEC8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C134C-464D-42B8-8E07-E1BFA591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235A-C748-4BD2-A313-C358F844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3B65E-5509-4913-937F-82EAF3B0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2FD43-5DA3-496D-A38F-2BC0A829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36CCB-BD62-43C8-82B7-45D7336B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B2C33-27F1-403D-AB4A-CBFEA69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2A47E-4706-47E2-8DF7-F14B508B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7B91A-D51F-433F-BEE8-E7358AC1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7265F-1F44-4788-9117-6664251E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7D478-A3F5-47A2-8A11-625DEDD5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B31AF-8875-4CE1-A551-7729E2BA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94308-644B-4171-80AC-752BE37D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6126-94DB-461E-AF59-05E249DC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752EB-C3BB-435D-8541-580F83D8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F3260-A178-41A4-BFBC-C7B8623E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C9E8E-8B97-4DF7-B75E-3953C7BA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ED6D8-8144-469B-9EA5-37488164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D2A00-4FB7-4513-836A-CE162049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1989F-B409-41AE-B6E7-8CD128C5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10131-90AA-42BA-9E37-F1442660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2253C-8058-4AC7-A8DC-4D2A51AC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9A717-8CD6-4F86-9D2C-9EE334D3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B73A5-9722-42A3-9F46-506AEDDF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B859-9374-480A-9336-DB21A407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66710-C3DE-4CB3-AB12-DFC9A6A4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83909-1269-4782-98EB-CC51394B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4C0C3-0A63-4AA5-8EB3-E6D25B8C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AC69B-2CD6-4D3C-8C2E-5D17895F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0607F-B46C-40D6-A9D7-B9A4CAD9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587AC-20DA-4EA1-8639-46640AE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952EA-DC40-4FAA-B64E-8C91BED6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8288B-E40E-40D1-92A5-51A9DD13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3A796-6BEC-40A9-B518-263FD930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B161B-4D3A-4A97-A96A-A02292BD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0323-02A8-4980-AA0C-735A1F8D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2A19FA-CF29-439E-9154-4B165A3B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E71E5-018B-453E-8DF9-64C4EB0F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0526D-89E3-417B-A7C2-CBE92786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5A4E1-37C4-4597-9B54-C161D22A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33A62-1751-4640-ABE4-CDC5F7FD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AFD86-2D9E-49B7-9274-9305A325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F33E4A-3C10-4337-ABE9-11BFFBD6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B171B-D3D6-4AF3-B901-5FF4756F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CD591C-F957-45D0-A196-E155477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869F9-7657-411B-B145-3963CEC1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3384-A5EA-429F-9774-BB27ACE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592E5-C3EF-4B8E-A9B9-24E240D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2D8A0-0369-420C-B0A9-C4F5CE1E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F22C0-0057-44A8-8FC3-BA60638F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2C7C5-4858-42C1-89DD-B71EEAB1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597FB-4401-4DD0-9E2B-C9C0B329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33B4B-50A7-4249-BA5B-C1413F4E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C6878-E5D4-4BD3-A2C4-FABDE492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072EE-72AA-4F3E-B098-4753B14E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0424E-8A9E-44FD-B581-4626F823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3A38D-6B61-4CF1-8BCA-7BF08EA3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AC7-A195-4EB0-AAFC-D26487C6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CFA1-B566-42F5-A944-F978A70E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35BC0-5CCC-48EE-BFD1-4F13625F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D115E-20A2-4BB1-98B6-B31BE1C1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3FF08A-F290-4CED-8461-4C48A254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4907C-6FE9-4E05-B446-7DD602A0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023C4-F590-4367-8558-D7DBF571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7FA5D-141F-49FD-AAB9-E0A2E62A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35258-4151-4094-A6C5-A24B1E42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A86FA-425F-4AD3-A0FC-675B35D5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5E6AA-4ED2-4199-A602-314D9E32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7CD4A-371F-49B5-A1CE-2BD449B7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D0BA-05D4-4A44-A2FC-1E04B119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11B8C-56D4-4822-9839-72739D8F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416C2-826D-45AA-A3CA-B0330369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1722A-8FF8-475C-8DF4-2D90FD62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178B5D-4EC8-448A-9491-0F3E5525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28A84-B962-4486-8CB4-019BED60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126EF-E6E0-4088-B636-E1BF09B9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AC0FF2-236B-4946-A657-3F0CADDF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5A590B-22C3-4CF3-8BC4-69E3AD2A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91B870-4DE8-4C0E-8AAD-03D0A159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1D3FE-D808-43A4-852D-D7AA4F32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BB78-634D-458D-9F6A-D965D544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51CC6-E75B-4AEA-852D-34ADAD1E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AC04C-B6BE-43D3-8A42-58236B32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E315E-498E-4709-89D4-9E9EA16E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FD623B-2779-43DD-998F-100C5DAF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B7354-E8B4-4475-8DC0-E2845CEF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FD8278-EC27-4DAF-9CC7-12C0E8F6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3388F-90CA-40DF-BECA-ED645B74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9520C0-E19E-474B-A1A8-00EC3624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77F604-B08D-4385-9DF1-82B54AD8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13964F-B03C-47A4-BAD8-212520F2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60B6-7670-46A2-B8FF-37F07BA6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0F8AF-BA26-4F43-8849-C5B9B70D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703327-7D87-4E9B-BA7D-305FEC9A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F44A3-4B11-43CE-8F51-930592D8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381276-334C-4608-8C73-2756D4C6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F15CB-F013-4240-AA21-94EA744C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6E99B-4C83-42E5-9793-98FC8A86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841F45-5ED0-4593-A548-5B247AA9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7A7877-869C-4800-9370-73D8F57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7370A-F663-4AE3-8593-44AAE507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BE908-2C15-4064-A04D-4F133BB8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8B8D-1E54-4781-89E7-36E98398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4A2E10-70E3-4DA1-B427-173C8287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0EDC07-6727-469D-855A-1D5087F3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43DB6-E37C-4063-BB82-B5E370F6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107F1C-F1BD-4BD5-A8E6-4779F96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26B592-16BF-4541-AA69-923466AE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155AEF-736B-4542-9C42-65AE20E1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93FA29-56CF-4CD5-8A21-1BB36375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F3FD2F-E666-4CE0-BBAF-BD5AF542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AAAEE-6700-46BD-9795-F88D5AE4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98AAC-28C6-4B8D-A4F7-1D301029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3A97-6134-4DB9-B8D9-438C47ED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EE8C8-0E07-4D16-97B8-63DA1C84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B693C1-34AF-4638-BE5F-8FDBFC37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69A28-FDBA-4C98-B2C9-1B39C6A7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0976-6DEB-42C7-8FC3-DCD7789F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B876C-BEA3-4205-A4A6-01BF038A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1580-5300-4E84-85B1-89EBD0BD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A0CE-31DA-4190-86DD-E5FD9F7E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A62-E5F8-4A58-9C7D-BD2AB615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CB93-4DB6-40CD-BE52-3D57EC81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6616-12D6-44D2-A686-3AB84352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A46C8-34AA-45C3-9D8E-D03987FD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21CAF-E118-4C6B-A222-70836322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48BB-65F5-46FE-949D-C2A0A604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03DD7-173A-443F-8335-FF729EE1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F718-F0C5-4731-B3EA-758A41B4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D1D2-BCCB-4D69-BE9F-6EB0105A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A8EF9-8831-4831-93C6-E831EB64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99A4-01B2-4271-A200-C3DDDD4B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86F-4149-4E27-A2DC-4643EC0A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F620-C87A-4294-BBA5-B0270300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58609-7F92-4A9A-B452-CF9B1EA3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EC0F4-06EA-41FE-B69C-56E5CBB7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DAB0-9629-4A92-96CB-FD6592B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7DC4-E158-40EE-BD1F-90B1586E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CD62D-5A39-45FC-8B97-5D88D99B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557E-D909-4DD4-A019-64C03A6F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630C-F54A-44D7-8B05-8A19B2DA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3F8A-3C19-4853-A50D-8566D3E5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8F66E-9FD4-4750-812E-D01C9A79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CB8-188E-4017-96CD-18C58C0C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12710-FF4D-48B1-A0FE-5984C39C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0CC32-85C6-43C7-85BB-3FD0E7F0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9E6E7-8A40-414E-83F1-864F1E0A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7DE18-A567-47F8-B436-BDBDE3A7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952C3-3092-472D-9C16-7BD4E8BF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1D3BC-7299-4C08-8A4E-C000D74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62DF9-4387-4543-8958-87E845A4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D816C-8414-4B11-95D5-CD1050B1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5D556-ED5F-4D85-94F3-93D1E37D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18344-8170-401B-9405-46BFAAC8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032-A966-48ED-8B21-A4005D3F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6C06A-69A9-4636-98EE-24BE0FF5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9F37D-6EFA-4C49-88E1-51407784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FE228-ED6E-4A70-8E34-F7B02610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138EB-B1EB-4295-B3F7-3F101D7D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5715-836B-4DE9-943E-49A4B5CA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FA3C3-FD23-4C99-ACFA-40977A17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FACF7-1793-4A85-A24E-87D04742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BEF6-90BB-46AA-93C5-36D93A4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B925C-99F2-486B-B9BA-62C3AC62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E98CB-A1D8-4181-914F-F533103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09E-9710-4ED8-8A67-CD3C40FC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319CA-3856-41CB-A930-B65C5098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565A-0331-434D-915A-5AE99697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5AEF4-1B5E-424A-8D12-0600B66C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37E5B-04B8-47F9-B698-7AEFC142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B675-B809-480E-93E6-32A6921B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E8E20-8589-40FF-8389-37006DF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3148-5CC6-4C30-B1A3-6ED240E9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59B29-6869-4C41-AB6A-C5F45E80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A5482-8BAD-493D-8F65-12634925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5D7C8-9D63-4D8D-8737-F8B61E0A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ED9-0CFA-4677-8CBC-E6D0D148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4D661-9182-4DE1-BE17-5F26B652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88F09-7BD1-4B76-8113-A5D5508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819A0-DE2F-41EC-867B-AD3EB35A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8F7AF-6A6D-4FE4-B4C3-29644CC4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0BD5C-7276-4835-8E76-907589C3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A3E8F-7E93-4431-A393-BE8F7789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A87A8-3FAC-4082-9EAA-CE13FC37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00F54-36C3-44A0-8BF4-3651061C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33BDC-5879-47BB-A9F9-9C78F977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D9D21-2776-408A-B807-5A274FC0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AC1-47A6-45C2-94FE-D3B326E2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1D50F-E5F1-4FE5-A2D2-0D5EB2A1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5C70D-56ED-4F16-B32D-C6A58B3B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9D422-4523-4F7B-AB2C-575B6668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7BB52-B52C-4A7D-BE5A-02CBEF8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FA554-03EA-4E2E-99C4-0B6AD6E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FC1F5-9A5D-4808-8073-9D612A34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67734-6FAA-42FE-AACF-75F45B78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6EA3A-1E2D-4C3A-8EB4-73FFA5B9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B6969-D97A-412A-8EE3-C6E79918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83DD7-7EC0-4ACF-9E3E-BC153F1C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77A5-84DB-46C9-B35C-F292507789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CC15-AC81-4D2C-9FC4-BFB38C4EA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8B98-9F50-48C8-B0DE-23DFA60CD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B078-2200-4E27-A953-16BCF9638C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7591-1228-452D-BDFE-8ABBD2282D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F88B-4CB7-4F38-B982-B23178EF04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8A71-22D0-4DC4-8E2C-A875452752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6524-46D5-46E6-B6B7-0AC81694D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3F47-85D1-4CBD-A9B9-14A43B8287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D679-5A30-49DA-85F6-79E6B44A64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060C-D579-46D7-B469-09406A6797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F90B-5C24-44AC-A982-DE9DA243D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864B-C604-4C30-9BE4-A8B2DBECB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F67D-7EA2-4EE4-AC60-EDEB749A4B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0F52-7F84-481D-A934-D344F6251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141B-9841-40F1-BD6F-2395D2CE22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50F6-366B-4E19-8230-4531D96ECF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0FBD-08D4-4AE1-A9FE-6667227FC7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4264-056F-4E07-9B96-374BD3D278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FC5A-A846-4B7D-9E57-A2FCEF9D57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1F2C-0E99-40D3-824C-D9814486BB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04ED-DB03-4839-AF11-B04009A639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FDF4-945C-411C-9036-A9770164A5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9FD0-36BF-4C55-9D71-6A0C5BAE6A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E4A2-00FC-4983-9DD6-188202C2C2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2764-DC8A-45CE-8A52-D903A67A50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9D28-311C-4957-AC82-D01A427082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99EF-7A24-4A7C-A1A5-465B4B3D2C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D693-A0E6-496E-BD30-B211528225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B250-9827-4E62-B988-2D1FFFA033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613E-64EB-41FA-A7AA-57540A9A43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EC9F-EBD7-4115-BCE5-BA99E5AC46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6C0E-3C98-4E02-B480-A97939FC6C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73FD-BCFD-44BC-A3ED-1737D57312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65CB-5951-4467-AD0B-B6B1CBE39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ED31-0A20-414B-AB5F-4A213341F5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EC9D-46D8-4066-B11B-C9E0019CEE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2F89-695E-4DEE-A284-EAA48694C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01AB-DF12-4899-A26E-39632C0B5C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498E-66BA-465A-8607-7483E87BF1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795240" y="3100320"/>
            <a:ext cx="75535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69633" descr=""/>
          <p:cNvPicPr/>
          <p:nvPr/>
        </p:nvPicPr>
        <p:blipFill>
          <a:blip r:embed="rId1"/>
          <a:stretch/>
        </p:blipFill>
        <p:spPr>
          <a:xfrm>
            <a:off x="247680" y="1125360"/>
            <a:ext cx="8648640" cy="261972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69634" descr=""/>
          <p:cNvPicPr/>
          <p:nvPr/>
        </p:nvPicPr>
        <p:blipFill>
          <a:blip r:embed="rId2"/>
          <a:stretch/>
        </p:blipFill>
        <p:spPr>
          <a:xfrm>
            <a:off x="3132000" y="4005360"/>
            <a:ext cx="3257640" cy="20955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8028000" y="27813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68609" descr=""/>
          <p:cNvPicPr/>
          <p:nvPr/>
        </p:nvPicPr>
        <p:blipFill>
          <a:blip r:embed="rId1"/>
          <a:stretch/>
        </p:blipFill>
        <p:spPr>
          <a:xfrm>
            <a:off x="3276720" y="0"/>
            <a:ext cx="2647800" cy="177156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68610" descr=""/>
          <p:cNvPicPr/>
          <p:nvPr/>
        </p:nvPicPr>
        <p:blipFill>
          <a:blip r:embed="rId2"/>
          <a:stretch/>
        </p:blipFill>
        <p:spPr>
          <a:xfrm>
            <a:off x="266760" y="1407960"/>
            <a:ext cx="8610480" cy="53341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8028000" y="2492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67585" descr=""/>
          <p:cNvPicPr/>
          <p:nvPr/>
        </p:nvPicPr>
        <p:blipFill>
          <a:blip r:embed="rId1"/>
          <a:stretch/>
        </p:blipFill>
        <p:spPr>
          <a:xfrm>
            <a:off x="247680" y="1852560"/>
            <a:ext cx="8648640" cy="31528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2"/>
          <a:stretch/>
        </p:blipFill>
        <p:spPr>
          <a:xfrm>
            <a:off x="7236000" y="450864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66561" descr=""/>
          <p:cNvPicPr/>
          <p:nvPr/>
        </p:nvPicPr>
        <p:blipFill>
          <a:blip r:embed="rId1"/>
          <a:stretch/>
        </p:blipFill>
        <p:spPr>
          <a:xfrm>
            <a:off x="290520" y="206280"/>
            <a:ext cx="8562960" cy="588672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66562" descr=""/>
          <p:cNvPicPr/>
          <p:nvPr/>
        </p:nvPicPr>
        <p:blipFill>
          <a:blip r:embed="rId2"/>
          <a:stretch/>
        </p:blipFill>
        <p:spPr>
          <a:xfrm>
            <a:off x="900000" y="6237360"/>
            <a:ext cx="4238640" cy="42840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66563" descr=""/>
          <p:cNvPicPr/>
          <p:nvPr/>
        </p:nvPicPr>
        <p:blipFill>
          <a:blip r:embed="rId3"/>
          <a:stretch/>
        </p:blipFill>
        <p:spPr>
          <a:xfrm>
            <a:off x="3191040" y="3898800"/>
            <a:ext cx="4333680" cy="22669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755640" y="6222960"/>
            <a:ext cx="475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65537" descr=""/>
          <p:cNvPicPr/>
          <p:nvPr/>
        </p:nvPicPr>
        <p:blipFill>
          <a:blip r:embed="rId1"/>
          <a:stretch/>
        </p:blipFill>
        <p:spPr>
          <a:xfrm>
            <a:off x="285840" y="189000"/>
            <a:ext cx="8572320" cy="370512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65538" descr=""/>
          <p:cNvPicPr/>
          <p:nvPr/>
        </p:nvPicPr>
        <p:blipFill>
          <a:blip r:embed="rId2"/>
          <a:stretch/>
        </p:blipFill>
        <p:spPr>
          <a:xfrm>
            <a:off x="1006560" y="4076640"/>
            <a:ext cx="8029440" cy="2552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3"/>
          <a:stretch/>
        </p:blipFill>
        <p:spPr>
          <a:xfrm>
            <a:off x="755640" y="183024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4"/>
          <a:stretch/>
        </p:blipFill>
        <p:spPr>
          <a:xfrm>
            <a:off x="6804000" y="1773360"/>
            <a:ext cx="21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5"/>
          <a:stretch/>
        </p:blipFill>
        <p:spPr>
          <a:xfrm>
            <a:off x="826920" y="2349360"/>
            <a:ext cx="8137800" cy="4478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6"/>
          <a:stretch/>
        </p:blipFill>
        <p:spPr>
          <a:xfrm>
            <a:off x="611280" y="2938320"/>
            <a:ext cx="2160360" cy="9954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7"/>
          <a:stretch/>
        </p:blipFill>
        <p:spPr>
          <a:xfrm>
            <a:off x="2700360" y="314172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8"/>
          <a:stretch/>
        </p:blipFill>
        <p:spPr>
          <a:xfrm>
            <a:off x="7667640" y="309708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9"/>
          <a:stretch/>
        </p:blipFill>
        <p:spPr>
          <a:xfrm>
            <a:off x="611280" y="4019400"/>
            <a:ext cx="1168200" cy="4478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10"/>
          <a:stretch/>
        </p:blipFill>
        <p:spPr>
          <a:xfrm>
            <a:off x="1763640" y="403380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11"/>
          <a:stretch/>
        </p:blipFill>
        <p:spPr>
          <a:xfrm>
            <a:off x="1042920" y="4581360"/>
            <a:ext cx="28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12"/>
          <a:stretch/>
        </p:blipFill>
        <p:spPr>
          <a:xfrm>
            <a:off x="3924360" y="458136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13"/>
          <a:stretch/>
        </p:blipFill>
        <p:spPr>
          <a:xfrm>
            <a:off x="596880" y="5099040"/>
            <a:ext cx="1168560" cy="4478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14"/>
          <a:stretch/>
        </p:blipFill>
        <p:spPr>
          <a:xfrm>
            <a:off x="1763640" y="511344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15"/>
          <a:stretch/>
        </p:blipFill>
        <p:spPr>
          <a:xfrm>
            <a:off x="1042920" y="5646600"/>
            <a:ext cx="2449440" cy="4478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16"/>
          <a:stretch/>
        </p:blipFill>
        <p:spPr>
          <a:xfrm>
            <a:off x="3521160" y="5661000"/>
            <a:ext cx="1771560" cy="4478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17"/>
          <a:stretch/>
        </p:blipFill>
        <p:spPr>
          <a:xfrm>
            <a:off x="1042920" y="6222960"/>
            <a:ext cx="244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图片 64513" descr=""/>
          <p:cNvPicPr/>
          <p:nvPr/>
        </p:nvPicPr>
        <p:blipFill>
          <a:blip r:embed="rId1"/>
          <a:stretch/>
        </p:blipFill>
        <p:spPr>
          <a:xfrm>
            <a:off x="262080" y="766800"/>
            <a:ext cx="8619840" cy="53244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2"/>
          <a:stretch/>
        </p:blipFill>
        <p:spPr>
          <a:xfrm>
            <a:off x="755640" y="2378160"/>
            <a:ext cx="5184720" cy="11221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3"/>
          <a:stretch/>
        </p:blipFill>
        <p:spPr>
          <a:xfrm>
            <a:off x="826920" y="3443400"/>
            <a:ext cx="4249800" cy="44748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4249800" cy="4474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5"/>
          <a:stretch/>
        </p:blipFill>
        <p:spPr>
          <a:xfrm>
            <a:off x="900000" y="458136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6"/>
          <a:stretch/>
        </p:blipFill>
        <p:spPr>
          <a:xfrm>
            <a:off x="900000" y="509904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7"/>
          <a:stretch/>
        </p:blipFill>
        <p:spPr>
          <a:xfrm>
            <a:off x="900000" y="5661000"/>
            <a:ext cx="612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63489" descr=""/>
          <p:cNvPicPr/>
          <p:nvPr/>
        </p:nvPicPr>
        <p:blipFill>
          <a:blip r:embed="rId1"/>
          <a:stretch/>
        </p:blipFill>
        <p:spPr>
          <a:xfrm>
            <a:off x="223920" y="757080"/>
            <a:ext cx="8696160" cy="53438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611280" y="4581360"/>
            <a:ext cx="4824360" cy="10796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611280" y="5661000"/>
            <a:ext cx="489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62465" descr=""/>
          <p:cNvPicPr/>
          <p:nvPr/>
        </p:nvPicPr>
        <p:blipFill>
          <a:blip r:embed="rId1"/>
          <a:stretch/>
        </p:blipFill>
        <p:spPr>
          <a:xfrm>
            <a:off x="552600" y="1047600"/>
            <a:ext cx="8038800" cy="47628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468360" y="995400"/>
            <a:ext cx="8280360" cy="4474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539640" y="1557360"/>
            <a:ext cx="6985080" cy="4474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6985080" cy="4474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5"/>
          <a:stretch/>
        </p:blipFill>
        <p:spPr>
          <a:xfrm>
            <a:off x="539640" y="2637000"/>
            <a:ext cx="6985080" cy="4474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6"/>
          <a:stretch/>
        </p:blipFill>
        <p:spPr>
          <a:xfrm>
            <a:off x="539640" y="3213000"/>
            <a:ext cx="6985080" cy="4478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7"/>
          <a:stretch/>
        </p:blipFill>
        <p:spPr>
          <a:xfrm>
            <a:off x="539640" y="3716280"/>
            <a:ext cx="6985080" cy="4478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8"/>
          <a:stretch/>
        </p:blipFill>
        <p:spPr>
          <a:xfrm>
            <a:off x="611280" y="4292640"/>
            <a:ext cx="7921440" cy="4474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9"/>
          <a:stretch/>
        </p:blipFill>
        <p:spPr>
          <a:xfrm>
            <a:off x="611280" y="4811760"/>
            <a:ext cx="7921440" cy="4474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10"/>
          <a:stretch/>
        </p:blipFill>
        <p:spPr>
          <a:xfrm>
            <a:off x="611280" y="5373720"/>
            <a:ext cx="7921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757520" y="673200"/>
            <a:ext cx="5838840" cy="5924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2916360" y="1700280"/>
            <a:ext cx="1584360" cy="4604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4427640" y="2262240"/>
            <a:ext cx="1584360" cy="4604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4140360" y="4956120"/>
            <a:ext cx="2592360" cy="4604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5867280" y="5502240"/>
            <a:ext cx="1584360" cy="4604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1187280" y="6035760"/>
            <a:ext cx="15843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9410" descr=""/>
          <p:cNvPicPr/>
          <p:nvPr/>
        </p:nvPicPr>
        <p:blipFill>
          <a:blip r:embed="rId1"/>
          <a:stretch/>
        </p:blipFill>
        <p:spPr>
          <a:xfrm>
            <a:off x="1662120" y="895320"/>
            <a:ext cx="58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8373" descr=""/>
          <p:cNvPicPr/>
          <p:nvPr/>
        </p:nvPicPr>
        <p:blipFill>
          <a:blip r:embed="rId1"/>
          <a:stretch/>
        </p:blipFill>
        <p:spPr>
          <a:xfrm>
            <a:off x="1700280" y="758880"/>
            <a:ext cx="5896080" cy="5838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3635280" y="2349360"/>
            <a:ext cx="3457800" cy="4604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7121520" y="2349360"/>
            <a:ext cx="517680" cy="4604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1692360" y="2909880"/>
            <a:ext cx="6119640" cy="4604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1547640" y="34290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2828880" y="3414600"/>
            <a:ext cx="1887480" cy="4604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4730760" y="3429000"/>
            <a:ext cx="3225960" cy="4604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8"/>
          <a:stretch/>
        </p:blipFill>
        <p:spPr>
          <a:xfrm>
            <a:off x="1417680" y="3990960"/>
            <a:ext cx="4032360" cy="1022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9"/>
          <a:stretch/>
        </p:blipFill>
        <p:spPr>
          <a:xfrm>
            <a:off x="5508720" y="4221000"/>
            <a:ext cx="2158920" cy="4604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0"/>
          <a:stretch/>
        </p:blipFill>
        <p:spPr>
          <a:xfrm>
            <a:off x="1476360" y="5041800"/>
            <a:ext cx="3240000" cy="4604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1"/>
          <a:stretch/>
        </p:blipFill>
        <p:spPr>
          <a:xfrm>
            <a:off x="4759200" y="5013360"/>
            <a:ext cx="1973520" cy="4604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2"/>
          <a:stretch/>
        </p:blipFill>
        <p:spPr>
          <a:xfrm>
            <a:off x="6732720" y="4998960"/>
            <a:ext cx="1295280" cy="4604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3"/>
          <a:stretch/>
        </p:blipFill>
        <p:spPr>
          <a:xfrm>
            <a:off x="1476360" y="5573880"/>
            <a:ext cx="6264360" cy="460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4"/>
          <a:stretch/>
        </p:blipFill>
        <p:spPr>
          <a:xfrm>
            <a:off x="1403280" y="6165720"/>
            <a:ext cx="511344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7352" descr=""/>
          <p:cNvPicPr/>
          <p:nvPr/>
        </p:nvPicPr>
        <p:blipFill>
          <a:blip r:embed="rId1"/>
          <a:stretch/>
        </p:blipFill>
        <p:spPr>
          <a:xfrm>
            <a:off x="1633680" y="990720"/>
            <a:ext cx="5876640" cy="4876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3592440" y="5300640"/>
            <a:ext cx="5176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组合 56326"/>
          <p:cNvGrpSpPr/>
          <p:nvPr/>
        </p:nvGrpSpPr>
        <p:grpSpPr>
          <a:xfrm>
            <a:off x="209520" y="714240"/>
            <a:ext cx="8724960" cy="5810040"/>
            <a:chOff x="209520" y="714240"/>
            <a:chExt cx="8724960" cy="5810040"/>
          </a:xfrm>
        </p:grpSpPr>
        <p:pic>
          <p:nvPicPr>
            <p:cNvPr id="1047" name="图片 56324" descr=""/>
            <p:cNvPicPr/>
            <p:nvPr/>
          </p:nvPicPr>
          <p:blipFill>
            <a:blip r:embed="rId1"/>
            <a:stretch/>
          </p:blipFill>
          <p:spPr>
            <a:xfrm>
              <a:off x="209520" y="714240"/>
              <a:ext cx="8724960" cy="58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图片 56325" descr=""/>
            <p:cNvPicPr/>
            <p:nvPr/>
          </p:nvPicPr>
          <p:blipFill>
            <a:blip r:embed="rId2"/>
            <a:stretch/>
          </p:blipFill>
          <p:spPr>
            <a:xfrm>
              <a:off x="6659640" y="3284280"/>
              <a:ext cx="2016000" cy="172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8229600" y="23194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8244000" y="544500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5300" descr=""/>
          <p:cNvPicPr/>
          <p:nvPr/>
        </p:nvPicPr>
        <p:blipFill>
          <a:blip r:embed="rId1"/>
          <a:stretch/>
        </p:blipFill>
        <p:spPr>
          <a:xfrm>
            <a:off x="243000" y="1268280"/>
            <a:ext cx="8658000" cy="263844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55301" descr=""/>
          <p:cNvPicPr/>
          <p:nvPr/>
        </p:nvPicPr>
        <p:blipFill>
          <a:blip r:embed="rId2"/>
          <a:stretch/>
        </p:blipFill>
        <p:spPr>
          <a:xfrm>
            <a:off x="3564000" y="4292640"/>
            <a:ext cx="1771560" cy="17143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468360" y="1974960"/>
            <a:ext cx="5327640" cy="384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5867280" y="1989000"/>
            <a:ext cx="2737080" cy="384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8612280" y="198900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468360" y="2451240"/>
            <a:ext cx="3959280" cy="1049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4500720" y="2708280"/>
            <a:ext cx="3527280" cy="384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324000" y="3443400"/>
            <a:ext cx="35272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54276" descr=""/>
          <p:cNvPicPr/>
          <p:nvPr/>
        </p:nvPicPr>
        <p:blipFill>
          <a:blip r:embed="rId1"/>
          <a:stretch/>
        </p:blipFill>
        <p:spPr>
          <a:xfrm>
            <a:off x="214200" y="792000"/>
            <a:ext cx="8715600" cy="58770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8244000" y="1268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684360" y="4348080"/>
            <a:ext cx="2303280" cy="3589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423720" y="5516640"/>
            <a:ext cx="2303640" cy="3585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2700360" y="5516640"/>
            <a:ext cx="4392720" cy="3585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7164360" y="5516640"/>
            <a:ext cx="1440000" cy="3585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7"/>
          <a:stretch/>
        </p:blipFill>
        <p:spPr>
          <a:xfrm>
            <a:off x="8661240" y="55022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8"/>
          <a:stretch/>
        </p:blipFill>
        <p:spPr>
          <a:xfrm>
            <a:off x="468360" y="5892840"/>
            <a:ext cx="4174920" cy="3585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9"/>
          <a:stretch/>
        </p:blipFill>
        <p:spPr>
          <a:xfrm>
            <a:off x="4673520" y="5877000"/>
            <a:ext cx="2635200" cy="3585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10"/>
          <a:stretch/>
        </p:blipFill>
        <p:spPr>
          <a:xfrm>
            <a:off x="7308720" y="5862600"/>
            <a:ext cx="1584360" cy="384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11"/>
          <a:stretch/>
        </p:blipFill>
        <p:spPr>
          <a:xfrm>
            <a:off x="539640" y="6280200"/>
            <a:ext cx="4608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52231" descr=""/>
          <p:cNvPicPr/>
          <p:nvPr/>
        </p:nvPicPr>
        <p:blipFill>
          <a:blip r:embed="rId1"/>
          <a:stretch/>
        </p:blipFill>
        <p:spPr>
          <a:xfrm>
            <a:off x="214200" y="2219400"/>
            <a:ext cx="8715600" cy="24192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4032360" cy="38412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52233" descr=""/>
          <p:cNvPicPr/>
          <p:nvPr/>
        </p:nvPicPr>
        <p:blipFill>
          <a:blip r:embed="rId3"/>
          <a:stretch/>
        </p:blipFill>
        <p:spPr>
          <a:xfrm>
            <a:off x="6832440" y="2679840"/>
            <a:ext cx="221940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13:1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